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4303066"/>
        <c:axId val="10107217"/>
      </c:barChart>
      <c:catAx>
        <c:axId val="7430306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107217"/>
        <c:crosses val="autoZero"/>
        <c:auto val="1"/>
        <c:lblAlgn val="ctr"/>
        <c:lblOffset val="100"/>
        <c:noMultiLvlLbl val="0"/>
      </c:catAx>
      <c:valAx>
        <c:axId val="1010721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30306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0865-4026-4A0C-AD9D-A5D6CC12D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CAD2-185A-4834-A866-336A9C9B0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1F77-5FA4-4A88-A64C-3D00C3E28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BD20-05D9-4297-8F9F-D49599050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29BA-7E1F-43EC-8BB8-6E59AFEEC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7AAA-4E6E-4B04-B166-3FABA9FB0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49F7-C904-48BA-840E-9ADDE2CD2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74C0-F42A-4D72-89F4-5B22AD4E0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6070-7B39-4A44-99C3-ADB607F15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7CF1-2A01-48DB-8102-04BD0344B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8262-85AE-487A-9CD9-03B033C41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6CAF-30A1-4675-9E2B-93BAE9D9A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CD0CF6-8C10-44F5-AD96-D2E663D4F8B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