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62890"/>
        <c:axId val="86368578"/>
      </c:barChart>
      <c:catAx>
        <c:axId val="55628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68578"/>
        <c:crosses val="autoZero"/>
        <c:auto val="1"/>
        <c:lblAlgn val="ctr"/>
        <c:lblOffset val="100"/>
        <c:noMultiLvlLbl val="0"/>
      </c:catAx>
      <c:valAx>
        <c:axId val="863685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628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F318-7D3E-47C4-9E69-CC0E62E5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5FC5-6830-4016-9DA5-28C6D39A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8944-AF2A-4E61-BCAD-69FF1F49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2D39-D57C-406C-9A5D-45D33962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9ED6-0A7C-4124-AC99-73CF453D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44A5-B282-43CD-A346-6D82DFDA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3429-EFE8-4E01-B901-165E1248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5C7-B3F2-4AB8-80AF-3A3267F8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202-A589-44A8-AAB4-E48663EE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C996-722B-4685-8E18-6468A536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05FF-2F80-42DF-ACC3-2DE8955E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B3E8-C779-40BD-B7D5-C16FD4D6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D537E-D101-4FCF-AF2F-4DD9692354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