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19170"/>
        <c:axId val="28605377"/>
      </c:barChart>
      <c:catAx>
        <c:axId val="62519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05377"/>
        <c:crosses val="autoZero"/>
        <c:auto val="1"/>
        <c:lblAlgn val="ctr"/>
        <c:lblOffset val="100"/>
        <c:noMultiLvlLbl val="0"/>
      </c:catAx>
      <c:valAx>
        <c:axId val="28605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19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311-7DBF-4812-B2FE-87256BC5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2A8-7238-4911-94C2-CA90122C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885-1017-4FB4-AEB3-EEED2276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13D-9E05-4597-9A78-CF53FF6E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F05-F85E-48FC-905B-B029DAC8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760-B50C-4CC3-A63A-3EF3604E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F1C-0024-4B77-9523-C7BA8A62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606-074B-41EE-B1E9-20BB87A4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CC5-2F98-4E63-8B81-88FA10C7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E7C-519E-4D2E-BFC0-9A898A15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570-CF96-45D4-BCD8-A2DE11B2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0AD-A01F-4790-B763-CF80BC62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527A7-B9C8-462A-8D01-E81A8DED06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